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Whois test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12193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2666880" y="4800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.internic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5486400" y="3657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md.merit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95280" y="3657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is.ripe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038480" y="4800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lam.internic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6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54864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lam.internic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3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4120" y="4800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man1.netso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6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4800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is-dev.ddn.m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43200" y="3657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.internic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705720" y="4800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meister.internic.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38480" y="236232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am.interic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038480" y="36576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ic.ddn.m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